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13.wmf" ContentType="image/x-wmf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10.wmf" ContentType="image/x-wmf"/>
  <Override PartName="/ppt/media/image25.png" ContentType="image/png"/>
  <Override PartName="/ppt/media/image2.png" ContentType="image/png"/>
  <Override PartName="/ppt/media/image11.png" ContentType="image/png"/>
  <Override PartName="/ppt/media/image16.wmf" ContentType="image/x-wmf"/>
  <Override PartName="/ppt/media/image8.png" ContentType="image/png"/>
  <Override PartName="/ppt/media/image9.png" ContentType="image/png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4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wmf" ContentType="image/x-wmf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315200" cy="9601200"/>
  <p:custShowLst>
    <p:custShow name="Custom Show 1" id="0">
      <p:sldLst>
        <p:sld r:id="rId5"/>
        <p:sld r:id="rId6"/>
        <p:sld r:id="rId7"/>
        <p:sld r:id="rId8"/>
        <p:sld r:id="rId9"/>
        <p:sld r:id="rId10"/>
        <p:sld r:id="rId11"/>
        <p:sld r:id="rId13"/>
        <p:sld r:id="rId14"/>
        <p:sld r:id="rId15"/>
        <p:sld r:id="rId16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3988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2A81-DD7A-4375-9F04-01F5AB1A1C8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55F8-6F29-4427-8B6B-46A8447893C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C53-36E0-40ED-AE0D-ED2FD41D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396-4EFF-42BB-AE55-EA1A6B10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88C-0419-4F48-B82E-D81EBF3A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70FD-8926-492A-9EBA-2EC386CA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9D30-82BA-49D9-93FA-8F18CE69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34A2-776F-4C65-B5B9-B2E04931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8CEB-6C1B-4706-82DF-0B0C2408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E982-0AED-4EC1-8E59-31319FD5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6C4B-8A01-40E5-833E-4FC8D601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E95A-13D2-4159-859B-23A1B839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89FD-8391-4239-A4DD-969F6D07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4C7-B98E-48DF-92D1-7C00E0B7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A752-689A-45C6-A01A-1CC4A66D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898F-F5ED-41C3-AA52-AD066719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A878-26B8-4586-B981-6FCF610A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6259-D5CE-4083-B7EF-CE8814C7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F4AF-F2CC-40B0-A3F4-9EE01498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E53-38A8-47F1-BA25-70FA951E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A4B-E10E-45E5-A416-21566927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E770-D1B2-4B7F-9259-73948E31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BD5-3C39-4620-BEFB-2BA6C924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C34-CE24-45FC-8A8E-2BF696A9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4E55-2AF8-4005-9E4D-CDCB3185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3AD-CE2C-434C-8FA2-47B72CF3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39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39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439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39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39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39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BA3A-B0E0-4005-9F73-91DC97F347D4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 flipH="1" rot="21173400">
            <a:off x="4068000" y="1312920"/>
            <a:ext cx="3673440" cy="367344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  <a:effectLst>
            <a:outerShdw dist="648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 flipH="1" rot="21436200">
            <a:off x="4044960" y="1268280"/>
            <a:ext cx="3673440" cy="367344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  <a:effectLst>
            <a:outerShdw dist="648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065480" y="1252440"/>
            <a:ext cx="3840120" cy="384012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  <a:effectLst>
            <a:outerShdw dist="64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9"/>
          <p:cNvSpPr/>
          <p:nvPr/>
        </p:nvSpPr>
        <p:spPr>
          <a:xfrm rot="292800">
            <a:off x="4123800" y="1181160"/>
            <a:ext cx="3978360" cy="397836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39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39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439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39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39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39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6CCA-40AF-4611-BE20-A3ACA8911E77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2" descr=""/>
          <p:cNvPicPr/>
          <p:nvPr/>
        </p:nvPicPr>
        <p:blipFill>
          <a:blip r:embed="rId1"/>
          <a:stretch/>
        </p:blipFill>
        <p:spPr>
          <a:xfrm>
            <a:off x="152280" y="122400"/>
            <a:ext cx="8766360" cy="2382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52280" y="48006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niel Contreras, Latonney Gregor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nny Hardin and Stephanie Sh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ET/5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rch 11,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essor Melinda Med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C:\Users\Latonney2u\AppData\Local\Microsoft\Windows\Temporary Internet Files\Content.IE5\5TE90EHS\MP900442310[1].jpg"/>
          <p:cNvPicPr/>
          <p:nvPr/>
        </p:nvPicPr>
        <p:blipFill>
          <a:blip r:embed="rId2"/>
          <a:stretch/>
        </p:blipFill>
        <p:spPr>
          <a:xfrm>
            <a:off x="1905120" y="2286000"/>
            <a:ext cx="5410080" cy="2362320"/>
          </a:xfrm>
          <a:prstGeom prst="rect">
            <a:avLst/>
          </a:prstGeom>
          <a:ln w="0">
            <a:noFill/>
          </a:ln>
        </p:spPr>
      </p:pic>
    </p:spTree>
  </p:cSld>
  <p:transition advTm="4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79200" y="189000"/>
            <a:ext cx="8607600" cy="1566720"/>
          </a:xfrm>
          <a:prstGeom prst="rect">
            <a:avLst/>
          </a:prstGeom>
          <a:ln w="0">
            <a:noFill/>
          </a:ln>
        </p:spPr>
      </p:pic>
      <p:pic>
        <p:nvPicPr>
          <p:cNvPr id="125" name="Diagram 2" descr=""/>
          <p:cNvPicPr/>
          <p:nvPr/>
        </p:nvPicPr>
        <p:blipFill>
          <a:blip r:embed="rId2"/>
          <a:stretch/>
        </p:blipFill>
        <p:spPr>
          <a:xfrm>
            <a:off x="1365120" y="1352520"/>
            <a:ext cx="7328160" cy="2451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C:\Users\Latonney2u\AppData\Local\Microsoft\Windows\Temporary Internet Files\Content.IE5\5TE90EHS\MP900439345[1].jpg"/>
          <p:cNvPicPr/>
          <p:nvPr/>
        </p:nvPicPr>
        <p:blipFill>
          <a:blip r:embed="rId3"/>
          <a:stretch/>
        </p:blipFill>
        <p:spPr>
          <a:xfrm>
            <a:off x="4343400" y="3581280"/>
            <a:ext cx="3657600" cy="281952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79200" y="189000"/>
            <a:ext cx="8607600" cy="1566720"/>
          </a:xfrm>
          <a:prstGeom prst="rect">
            <a:avLst/>
          </a:prstGeom>
          <a:ln w="0">
            <a:noFill/>
          </a:ln>
        </p:spPr>
      </p:pic>
      <p:pic>
        <p:nvPicPr>
          <p:cNvPr id="128" name="Diagram 2" descr=""/>
          <p:cNvPicPr/>
          <p:nvPr/>
        </p:nvPicPr>
        <p:blipFill>
          <a:blip r:embed="rId2"/>
          <a:stretch/>
        </p:blipFill>
        <p:spPr>
          <a:xfrm>
            <a:off x="457200" y="1365120"/>
            <a:ext cx="8236080" cy="4554720"/>
          </a:xfrm>
          <a:prstGeom prst="rect">
            <a:avLst/>
          </a:prstGeom>
          <a:ln w="0">
            <a:noFill/>
          </a:ln>
        </p:spPr>
      </p:pic>
    </p:spTree>
  </p:cSld>
  <p:transition advTm="4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itle 4" descr=""/>
          <p:cNvPicPr/>
          <p:nvPr/>
        </p:nvPicPr>
        <p:blipFill>
          <a:blip r:embed="rId1"/>
          <a:stretch/>
        </p:blipFill>
        <p:spPr>
          <a:xfrm>
            <a:off x="92160" y="-79200"/>
            <a:ext cx="8959680" cy="11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304920" y="838080"/>
          <a:ext cx="8799480" cy="5972400"/>
        </p:xfrm>
        <a:graphic>
          <a:graphicData uri="http://schemas.openxmlformats.org/drawingml/2006/table">
            <a:tbl>
              <a:tblPr/>
              <a:tblGrid>
                <a:gridCol w="1414440"/>
                <a:gridCol w="3612960"/>
                <a:gridCol w="3772080"/>
              </a:tblGrid>
              <a:tr h="623880">
                <a:tc>
                  <a:txBody>
                    <a:bodyPr lIns="86760" rIns="86760" tIns="43560" bIns="43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ynchrono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ynchro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416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e of commu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al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ni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to process info and formulate respon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376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ed Reflection Tim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w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of sense of commu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s self-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on is limited to written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08432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ers can follow along with pres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ice inflec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rd teleconfer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de calendar or time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er collaboration for discus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n-ended questions by facilit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196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cilit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ructor Led i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ep learners engag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 centered i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ck learner particip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08432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ar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edule time to attend 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y actively engaged and avoid distr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l-time inter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own 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ntain self-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stions can be asked at any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advTm="4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457200" y="552960"/>
            <a:ext cx="8305920" cy="61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5760" indent="-4557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shley, J., (2003). Synchronous and asynchronous communication tools. Executive Update Online. Retrieved from www.asaecenter.org/Resources/articledetail.cfm?ItemNumber=1357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nkelstein, J. (2006). Learning in real time: Synchronous teaching and learning online. San Francisco, CA: Jossey-Bass. Retrieved from https://ecampus.phoenix.edu/content/eBookLibrary2/content/ eReader.aspx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ssetMetaId=47c81011-9927-4b85-8999- f05d62d60173&amp;assetDataId=1d315fd7-62c7-4706-b7d0- 0a1486e2aa90&amp;assetpdfdataid=b747bbe4-89e3-4838-b985- eae01874a8d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elly, M., (2011). About.com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. Learning Styles: Understanding and Using Learning Styl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Retrieved March 5, 2011. from http://712educators.about.com/od/learningstyles/a/learning_styles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andor-Ngemi, J., (2007).What Is The Difference Between Synchronous And Asynchronous Learning? Name some different forms. Retrieved March 6, 2012. from, http://jarrettlandor.blogspot.com/2007/10/what-is-difference-between-synchronous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ichard, L.,.(2009).eLearning in Ottaw: Difference Between Asynchronous and Synchronous Learning. Retrieved March 6, 2012. from, http://elearning-ottawa.org/2009/08/11/difference-between-asynchronous-and-synchronous-learning.as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165240" y="274680"/>
            <a:ext cx="8521560" cy="1305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380880" y="1143000"/>
            <a:ext cx="83059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chronous learning, which means at the same time requires interacting with an instructor through the internet in real-tim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chronous means that a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structor is pres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n the course is delivered, even though the course might be delivered remotely over the Intern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Richard, 200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0" descr="C:\Users\Latonney2u\AppData\Local\Microsoft\Windows\Temporary Internet Files\Content.IE5\QTN2EC9R\MP900422593[1].jpg"/>
          <p:cNvPicPr/>
          <p:nvPr/>
        </p:nvPicPr>
        <p:blipFill>
          <a:blip r:embed="rId2"/>
          <a:stretch/>
        </p:blipFill>
        <p:spPr>
          <a:xfrm>
            <a:off x="533520" y="4114800"/>
            <a:ext cx="3429000" cy="213372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165240" y="274680"/>
            <a:ext cx="8521560" cy="1305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304920" y="1295280"/>
            <a:ext cx="853416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ynchronous, which means, "not at the same time," allows the learners to complete the web based training on his own time and schedule, without live interaction with the instructo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ynchronous type classes are completely the opposite of synchronous classes which means that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structor does not need to be pres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refore allowing learners to learn anytime, at their conveni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Richard, 200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1" descr="C:\Users\Latonney2u\AppData\Local\Microsoft\Windows\Temporary Internet Files\Content.IE5\ZVK2VJ5D\MP900422589[1].jpg"/>
          <p:cNvPicPr/>
          <p:nvPr/>
        </p:nvPicPr>
        <p:blipFill>
          <a:blip r:embed="rId2"/>
          <a:stretch/>
        </p:blipFill>
        <p:spPr>
          <a:xfrm>
            <a:off x="457200" y="4876920"/>
            <a:ext cx="3352680" cy="167616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165240" y="274680"/>
            <a:ext cx="8521560" cy="1316160"/>
          </a:xfrm>
          <a:prstGeom prst="rect">
            <a:avLst/>
          </a:prstGeom>
          <a:ln w="0">
            <a:noFill/>
          </a:ln>
        </p:spPr>
      </p:pic>
      <p:pic>
        <p:nvPicPr>
          <p:cNvPr id="103" name="Diagram 2" descr=""/>
          <p:cNvPicPr/>
          <p:nvPr/>
        </p:nvPicPr>
        <p:blipFill>
          <a:blip r:embed="rId2"/>
          <a:stretch/>
        </p:blipFill>
        <p:spPr>
          <a:xfrm>
            <a:off x="1371600" y="1390680"/>
            <a:ext cx="7394400" cy="5291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" descr="C:\Program Files (x86)\Microsoft Office\MEDIA\CAGCAT10\j0301252.wmf"/>
          <p:cNvPicPr/>
          <p:nvPr/>
        </p:nvPicPr>
        <p:blipFill>
          <a:blip r:embed="rId3"/>
          <a:stretch/>
        </p:blipFill>
        <p:spPr>
          <a:xfrm flipH="1">
            <a:off x="228600" y="510552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" descr="C:\Program Files (x86)\Microsoft Office\MEDIA\CAGCAT10\j0301252.wmf"/>
          <p:cNvPicPr/>
          <p:nvPr/>
        </p:nvPicPr>
        <p:blipFill>
          <a:blip r:embed="rId4"/>
          <a:stretch/>
        </p:blipFill>
        <p:spPr>
          <a:xfrm>
            <a:off x="7086600" y="91440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165240" y="274680"/>
            <a:ext cx="8521560" cy="1316160"/>
          </a:xfrm>
          <a:prstGeom prst="rect">
            <a:avLst/>
          </a:prstGeom>
          <a:ln w="0">
            <a:noFill/>
          </a:ln>
        </p:spPr>
      </p:pic>
      <p:pic>
        <p:nvPicPr>
          <p:cNvPr id="107" name="Diagram 2" descr=""/>
          <p:cNvPicPr/>
          <p:nvPr/>
        </p:nvPicPr>
        <p:blipFill>
          <a:blip r:embed="rId2"/>
          <a:stretch/>
        </p:blipFill>
        <p:spPr>
          <a:xfrm>
            <a:off x="689040" y="1359000"/>
            <a:ext cx="7235640" cy="451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Program Files (x86)\Microsoft Office\MEDIA\CAGCAT10\j0292020.wmf"/>
          <p:cNvPicPr/>
          <p:nvPr/>
        </p:nvPicPr>
        <p:blipFill>
          <a:blip r:embed="rId3"/>
          <a:stretch/>
        </p:blipFill>
        <p:spPr>
          <a:xfrm>
            <a:off x="152280" y="5105520"/>
            <a:ext cx="1600200" cy="1544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Program Files (x86)\Microsoft Office\MEDIA\CAGCAT10\j0292020.wmf"/>
          <p:cNvPicPr/>
          <p:nvPr/>
        </p:nvPicPr>
        <p:blipFill>
          <a:blip r:embed="rId4"/>
          <a:stretch/>
        </p:blipFill>
        <p:spPr>
          <a:xfrm flipH="1">
            <a:off x="7314840" y="990720"/>
            <a:ext cx="1600200" cy="154440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165240" y="274680"/>
            <a:ext cx="8521560" cy="1316160"/>
          </a:xfrm>
          <a:prstGeom prst="rect">
            <a:avLst/>
          </a:prstGeom>
          <a:ln w="0">
            <a:noFill/>
          </a:ln>
        </p:spPr>
      </p:pic>
      <p:pic>
        <p:nvPicPr>
          <p:cNvPr id="111" name="Diagram 4" descr=""/>
          <p:cNvPicPr/>
          <p:nvPr/>
        </p:nvPicPr>
        <p:blipFill>
          <a:blip r:embed="rId2"/>
          <a:stretch/>
        </p:blipFill>
        <p:spPr>
          <a:xfrm>
            <a:off x="2670120" y="1798560"/>
            <a:ext cx="6168960" cy="42483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643080" y="601992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Landor-Ngemi, 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Users\Latonney2u\AppData\Local\Microsoft\Windows\Temporary Internet Files\Content.IE5\5TE90EHS\MC900295477[1].wmf"/>
          <p:cNvPicPr/>
          <p:nvPr/>
        </p:nvPicPr>
        <p:blipFill>
          <a:blip r:embed="rId3"/>
          <a:stretch/>
        </p:blipFill>
        <p:spPr>
          <a:xfrm>
            <a:off x="457200" y="1219320"/>
            <a:ext cx="2133720" cy="44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3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165240" y="274680"/>
            <a:ext cx="8521560" cy="1316160"/>
          </a:xfrm>
          <a:prstGeom prst="rect">
            <a:avLst/>
          </a:prstGeom>
          <a:ln w="0">
            <a:noFill/>
          </a:ln>
        </p:spPr>
      </p:pic>
      <p:pic>
        <p:nvPicPr>
          <p:cNvPr id="115" name="Diagram 4" descr=""/>
          <p:cNvPicPr/>
          <p:nvPr/>
        </p:nvPicPr>
        <p:blipFill>
          <a:blip r:embed="rId2"/>
          <a:stretch/>
        </p:blipFill>
        <p:spPr>
          <a:xfrm>
            <a:off x="2517840" y="1676520"/>
            <a:ext cx="6394320" cy="43225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6719400" y="60958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Landor-Ngemi, 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Users\Latonney2u\AppData\Local\Microsoft\Windows\Temporary Internet Files\Content.IE5\5TE90EHS\MC900295477[1].wmf"/>
          <p:cNvPicPr/>
          <p:nvPr/>
        </p:nvPicPr>
        <p:blipFill>
          <a:blip r:embed="rId3"/>
          <a:stretch/>
        </p:blipFill>
        <p:spPr>
          <a:xfrm>
            <a:off x="304920" y="1298520"/>
            <a:ext cx="2060280" cy="449280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Title 1" descr=""/>
          <p:cNvPicPr/>
          <p:nvPr/>
        </p:nvPicPr>
        <p:blipFill>
          <a:blip r:embed="rId1"/>
          <a:stretch/>
        </p:blipFill>
        <p:spPr>
          <a:xfrm>
            <a:off x="291960" y="274680"/>
            <a:ext cx="8394840" cy="1268280"/>
          </a:xfrm>
          <a:prstGeom prst="rect">
            <a:avLst/>
          </a:prstGeom>
          <a:ln w="0">
            <a:noFill/>
          </a:ln>
        </p:spPr>
      </p:pic>
      <p:pic>
        <p:nvPicPr>
          <p:cNvPr id="119" name="Diagram 2" descr=""/>
          <p:cNvPicPr/>
          <p:nvPr/>
        </p:nvPicPr>
        <p:blipFill>
          <a:blip r:embed="rId2"/>
          <a:stretch/>
        </p:blipFill>
        <p:spPr>
          <a:xfrm>
            <a:off x="609480" y="1395360"/>
            <a:ext cx="8077320" cy="5157720"/>
          </a:xfrm>
          <a:prstGeom prst="rect">
            <a:avLst/>
          </a:prstGeom>
          <a:ln w="0">
            <a:noFill/>
          </a:ln>
        </p:spPr>
      </p:pic>
    </p:spTree>
  </p:cSld>
  <p:transition advTm="4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79200" y="195120"/>
            <a:ext cx="8607600" cy="1560600"/>
          </a:xfrm>
          <a:prstGeom prst="rect">
            <a:avLst/>
          </a:prstGeom>
          <a:ln w="0">
            <a:noFill/>
          </a:ln>
        </p:spPr>
      </p:pic>
      <p:pic>
        <p:nvPicPr>
          <p:cNvPr id="121" name="Diagram 2" descr=""/>
          <p:cNvPicPr/>
          <p:nvPr/>
        </p:nvPicPr>
        <p:blipFill>
          <a:blip r:embed="rId2"/>
          <a:stretch/>
        </p:blipFill>
        <p:spPr>
          <a:xfrm>
            <a:off x="231840" y="1341360"/>
            <a:ext cx="8534160" cy="4121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Program Files (x86)\Microsoft Office\MEDIA\CAGCAT10\j0299125.wmf"/>
          <p:cNvPicPr/>
          <p:nvPr/>
        </p:nvPicPr>
        <p:blipFill>
          <a:blip r:embed="rId3"/>
          <a:stretch/>
        </p:blipFill>
        <p:spPr>
          <a:xfrm>
            <a:off x="228600" y="487692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C:\Program Files (x86)\Microsoft Office\MEDIA\CAGCAT10\j0299125.wmf"/>
          <p:cNvPicPr/>
          <p:nvPr/>
        </p:nvPicPr>
        <p:blipFill>
          <a:blip r:embed="rId4"/>
          <a:stretch/>
        </p:blipFill>
        <p:spPr>
          <a:xfrm flipH="1">
            <a:off x="7620120" y="53352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 advTm="4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3:37:21Z</dcterms:created>
  <dc:creator>PATNPENS</dc:creator>
  <dc:description/>
  <dc:language>en-US</dc:language>
  <cp:lastModifiedBy>PATNPENS</cp:lastModifiedBy>
  <dcterms:modified xsi:type="dcterms:W3CDTF">2012-03-11T17:01:06Z</dcterms:modified>
  <cp:revision>45</cp:revision>
  <dc:subject/>
  <dc:title>SYNCHRONOUS/ASYNCHRONOUS LEARNING COMPARISON</dc:title>
</cp:coreProperties>
</file>